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2.wmf" ContentType="image/x-wmf"/>
  <Override PartName="/ppt/media/image9.jpeg" ContentType="image/jpeg"/>
  <Override PartName="/ppt/media/image10.jpeg" ContentType="image/jpeg"/>
  <Override PartName="/ppt/media/image11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00850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00400" cy="9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Img"/>
          </p:nvPr>
        </p:nvSpPr>
        <p:spPr>
          <a:xfrm>
            <a:off x="888480" y="721800"/>
            <a:ext cx="5024520" cy="37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14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81600"/>
            <a:ext cx="29145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6200" y="9381600"/>
            <a:ext cx="29145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CA19-6B21-448B-A90C-964DA7DB5D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D2DD-4D66-42F9-A886-177261C801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6D7-98A9-4F2A-B5B4-53616CD82F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4ACB-A830-4E30-BA7E-2B16D5CDC9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E740-7F86-422F-BFB2-7747035BFA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88ED-604C-4637-BABE-87233CBCC2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B07C-9BEA-4904-AC29-71CCF7E26E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0DD5-9796-4F44-A991-F0F3343C5E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892A-9E7C-4837-AF81-E7E36575AA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2959-13D0-4B00-AF90-45E1BC64A0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4D65-1AA0-40ED-BD2E-FF6A20FC80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AD5E-F9B2-4503-B072-7EA9A1CE75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9FD2-DE91-4D62-9BAB-7FD815E7FB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653E-4FCA-41BE-8762-C5ED4B8F62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3EEE-3CC6-4E28-9821-DA66849C04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3F3A-ED52-4579-8765-26506CF62F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433C-FD24-4338-A14D-7FA0829FE6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F5A-DBF5-4CA4-8962-F007B5F7A5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63DB-B94B-4390-8469-D02FBDFA21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19D0-6BFD-45E8-BACB-B1CC104C19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6EC1-D793-42C2-902A-0CA819E856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4B01-D668-46C1-A6B0-E6D8EB707A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74E6-E6AE-46DD-8EFF-12895B926D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C8CE-50A2-417F-8E4F-C24FDE5B37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713F-9155-459D-9518-653D93C5A1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A96-E72A-48C9-8CF4-295537291C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EA1C-F813-45AB-B094-B4902814BB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71FD-3888-41EB-AD3B-A674C061B3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115-B547-49F2-B9A8-7D2B577449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9DA9-14F1-4325-B783-70AEFCFF50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67E1-4E89-47B1-B9E3-1F8762BD0A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28D-AD9F-454F-9C70-77BF3A92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0E6-38AB-4D47-807C-C7D61410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BAA-9F5F-4D3F-B923-7082FB1F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5C3-E6F9-4890-920C-17CAC1AA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1BFE-4B10-4E68-8C0C-FB5E01F0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3AAC-5723-426F-9D35-88FB8B3E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7788-D2D8-4738-8FCA-4CBC0001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0CA0-04BE-4EEE-8EA4-C8542D54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0C67-6E6A-4AFE-A845-95F738E0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4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1765-1F7C-4553-944A-4220359A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AD4E-22BA-48E5-B0A2-C606B6E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ED7-4457-4518-BF7A-7F4B8C5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52A0-E8CF-4B59-BBA9-CB50C805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8A59-6E84-45AA-AB4B-6F54222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3604-E8BE-48A3-9F47-65054FA4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4977-21AF-45EF-B4CC-81761D80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1CD1-BB9D-4AAB-8559-72530C98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645-B7C0-4D4B-A770-D7A4A29E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BCC-FB28-4689-9A16-90177E6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5A6-A2D0-4ECA-BA6E-B93A38F3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4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3BA-C072-4B1E-98AB-A52B91AC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83D-DCE7-4ED9-A396-C6B6846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451-2479-428D-8FB5-52438672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268-0144-4C76-BE2A-4005EB6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7B7F-AD34-4919-BC3D-B83B7BCAB95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489B-538C-4A38-A0E6-E20AA3ED8932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siness.salford.ac.u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528720" y="27381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34920" y="4723920"/>
            <a:ext cx="5041800" cy="9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宋体"/>
              </a:rPr>
              <a:t>Dr Richard Li-Hu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宋体"/>
              </a:rPr>
              <a:t>Salford Business Schoo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宋体"/>
              </a:rPr>
              <a:t>University of Salford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26920" y="328464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portunities and Challenges in International Technology Transfe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371600" y="895320"/>
            <a:ext cx="7315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43280" y="1518840"/>
            <a:ext cx="40323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4" descr="Salfo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805360"/>
            <a:ext cx="392436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logo"/>
          <p:cNvPicPr/>
          <p:nvPr/>
        </p:nvPicPr>
        <p:blipFill>
          <a:blip r:embed="rId3"/>
          <a:stretch/>
        </p:blipFill>
        <p:spPr>
          <a:xfrm>
            <a:off x="5435640" y="5732640"/>
            <a:ext cx="3708360" cy="9111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5"/>
          <p:cNvSpPr/>
          <p:nvPr/>
        </p:nvSpPr>
        <p:spPr>
          <a:xfrm>
            <a:off x="1979640" y="1341360"/>
            <a:ext cx="48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echnology Transfer Worksho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chool of Economy and Management, Tsinghua  University,  1st, December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图片 19" descr="logo.png"/>
          <p:cNvPicPr/>
          <p:nvPr/>
        </p:nvPicPr>
        <p:blipFill>
          <a:blip r:embed="rId4"/>
          <a:stretch/>
        </p:blipFill>
        <p:spPr>
          <a:xfrm>
            <a:off x="-181080" y="0"/>
            <a:ext cx="4681800" cy="112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947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orld Bank &amp; Technology Transf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One of major organizations which are most interested in technology transf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meaningful partnership between foreign and local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ing international consultanc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Support setting up joint ventur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Explicit policy adopted in 1993: no technology  </a:t>
            </a:r>
            <a:br>
              <a:rPr sz="2400"/>
            </a:b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transfer, no meaningful partnerships with local</a:t>
            </a:r>
            <a:br>
              <a:rPr sz="2400"/>
            </a:b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companies, the result will be no contrac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However, WB has not established mechanisms to </a:t>
            </a:r>
            <a:br>
              <a:rPr sz="2400"/>
            </a:b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ensure real technology 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8155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chnology Transfer Hurdles: Separation between Technology and Knowled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transfer has been less attended since 80s, e.g. less funding, less research, less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o much focuses on high-tech or high end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shadowed by inno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aration between technology and knowledge threats people in technology transfer practice and keeps researchers away from technology transfer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rong illusion - knowledge management and knowledge transfer seems more popula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143000" y="1676520"/>
            <a:ext cx="76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71680" y="214200"/>
            <a:ext cx="8076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Basic Model of Technolog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28600" y="990720"/>
          <a:ext cx="89154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9154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actors Influencing the Strategies of Technology Transf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2843280" y="1989000"/>
            <a:ext cx="2690640" cy="1676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ransferor characterist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orm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ultural and geograph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tance from receiv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5148360" y="3068640"/>
            <a:ext cx="287964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ology character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phis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0920" y="3141720"/>
            <a:ext cx="3025800" cy="1384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ceiving country characterist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vestment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ical absorptive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843280" y="5157720"/>
            <a:ext cx="2736720" cy="1440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 and strate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 technology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4140360" y="37162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4932360" y="4292640"/>
            <a:ext cx="72072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2484360" y="4437000"/>
            <a:ext cx="792360" cy="89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9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S-Cur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34696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th the rate of a technology’s improvement and its rate of diffusion to the market typically follow an s-shaped cur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jor reference for technology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-curves in Technological Impr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fig 3-1"/>
          <p:cNvPicPr/>
          <p:nvPr/>
        </p:nvPicPr>
        <p:blipFill>
          <a:blip r:embed="rId1"/>
          <a:stretch/>
        </p:blipFill>
        <p:spPr>
          <a:xfrm>
            <a:off x="601560" y="3687840"/>
            <a:ext cx="4348440" cy="26254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5092560" y="3618000"/>
            <a:ext cx="358776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chnology improves slowly at first because it is poorly understoo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n accelerates as understanding increas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n tapers off as approaches limi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947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allenges and Barriers of Technology Transf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63272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042920" y="630864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Cummings and Teng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7"/>
          <p:cNvSpPr/>
          <p:nvPr/>
        </p:nvSpPr>
        <p:spPr>
          <a:xfrm>
            <a:off x="684360" y="262080"/>
            <a:ext cx="784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om Technology Transfer to Knowledge Transf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28"/>
          <p:cNvSpPr/>
          <p:nvPr/>
        </p:nvSpPr>
        <p:spPr>
          <a:xfrm>
            <a:off x="4952880" y="4267080"/>
            <a:ext cx="3810240" cy="1825920"/>
          </a:xfrm>
          <a:prstGeom prst="wedgeRectCallout">
            <a:avLst>
              <a:gd name="adj1" fmla="val -80791"/>
              <a:gd name="adj2" fmla="val 45643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??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Technology transfer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take place without knowled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transfer, as knowledge is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key to control techn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as a whol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29"/>
          <p:cNvSpPr/>
          <p:nvPr/>
        </p:nvSpPr>
        <p:spPr>
          <a:xfrm>
            <a:off x="838080" y="1981080"/>
            <a:ext cx="990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30"/>
          <p:cNvSpPr/>
          <p:nvPr/>
        </p:nvSpPr>
        <p:spPr>
          <a:xfrm>
            <a:off x="2438280" y="1981080"/>
            <a:ext cx="106704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ory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31"/>
          <p:cNvSpPr/>
          <p:nvPr/>
        </p:nvSpPr>
        <p:spPr>
          <a:xfrm>
            <a:off x="4191120" y="1981080"/>
            <a:ext cx="327636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cover that sustainable technology transfer cannot happen without knowledg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32"/>
          <p:cNvSpPr/>
          <p:nvPr/>
        </p:nvSpPr>
        <p:spPr>
          <a:xfrm>
            <a:off x="838080" y="3048120"/>
            <a:ext cx="297180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cover that explicit knowledge is easy to track but not only part of knowledg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33"/>
          <p:cNvSpPr/>
          <p:nvPr/>
        </p:nvSpPr>
        <p:spPr>
          <a:xfrm>
            <a:off x="4343400" y="3048120"/>
            <a:ext cx="182880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stablish importance of tacit knowledg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34"/>
          <p:cNvSpPr/>
          <p:nvPr/>
        </p:nvSpPr>
        <p:spPr>
          <a:xfrm>
            <a:off x="838080" y="4267080"/>
            <a:ext cx="320040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velop model for improving tacit knowledge transfer as it deliver the most competitive 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36"/>
          <p:cNvSpPr/>
          <p:nvPr/>
        </p:nvSpPr>
        <p:spPr>
          <a:xfrm>
            <a:off x="18288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37"/>
          <p:cNvSpPr/>
          <p:nvPr/>
        </p:nvSpPr>
        <p:spPr>
          <a:xfrm>
            <a:off x="3505320" y="2438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8"/>
          <p:cNvSpPr/>
          <p:nvPr/>
        </p:nvSpPr>
        <p:spPr>
          <a:xfrm>
            <a:off x="3809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39"/>
          <p:cNvSpPr/>
          <p:nvPr/>
        </p:nvSpPr>
        <p:spPr>
          <a:xfrm>
            <a:off x="61722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40"/>
          <p:cNvSpPr/>
          <p:nvPr/>
        </p:nvSpPr>
        <p:spPr>
          <a:xfrm>
            <a:off x="746748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41"/>
          <p:cNvSpPr/>
          <p:nvPr/>
        </p:nvSpPr>
        <p:spPr>
          <a:xfrm>
            <a:off x="4067280" y="479736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900000" y="566100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Li-Hua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3751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What is technolog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“</a:t>
            </a: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The combination of hum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understanding of natural laws and phenomena accumulated since ancient times to make things that fulfil our needs and desires.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Techn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Product (Four closely-linked element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027"/>
          <p:cNvSpPr/>
          <p:nvPr/>
        </p:nvSpPr>
        <p:spPr>
          <a:xfrm>
            <a:off x="838080" y="533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inction between Technology and K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28"/>
          <p:cNvSpPr/>
          <p:nvPr/>
        </p:nvSpPr>
        <p:spPr>
          <a:xfrm>
            <a:off x="4495680" y="1811520"/>
            <a:ext cx="42926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</a:rPr>
              <a:t>What is knowledg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is a fluid mix of framed experience, values, contextual information, and expert insight that provide a framework for evaluating and incorporating new experiences and information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Beli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Jud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Expec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Method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Know-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9" descr="LH RH Brain 1"/>
          <p:cNvPicPr/>
          <p:nvPr/>
        </p:nvPicPr>
        <p:blipFill>
          <a:blip r:embed="rId1"/>
          <a:stretch/>
        </p:blipFill>
        <p:spPr>
          <a:xfrm>
            <a:off x="6248520" y="3733920"/>
            <a:ext cx="2895480" cy="3124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9" descr="Bird's Nest Speaker (R-MN-8000)"/>
          <p:cNvPicPr/>
          <p:nvPr/>
        </p:nvPicPr>
        <p:blipFill>
          <a:blip r:embed="rId2"/>
          <a:stretch/>
        </p:blipFill>
        <p:spPr>
          <a:xfrm>
            <a:off x="0" y="4869000"/>
            <a:ext cx="450072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Dr Richard Li-Hua@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50720" y="620640"/>
            <a:ext cx="72594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 of Knowled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4685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plic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odified in blueprints, designs, drawings and specif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Knowledge of rationality (min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equential knowledge (there and th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igital knowledge (the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a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Uncodified, kept in human brai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Knowledge of experience (bo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taneous knowledge (here and now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alogy knowledge (practic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867280" y="2637000"/>
            <a:ext cx="273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know more than we can te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nyi, M. 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Object 5" descr=""/>
          <p:cNvPicPr/>
          <p:nvPr/>
        </p:nvPicPr>
        <p:blipFill>
          <a:blip r:embed="rId1"/>
          <a:stretch/>
        </p:blipFill>
        <p:spPr>
          <a:xfrm>
            <a:off x="6570720" y="4267080"/>
            <a:ext cx="1125360" cy="1536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9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ategories of Tacit Knowledg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rd to pin down skills-”know how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 skills that people need to repeatedly practice and feedback and get the feel for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tal models or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ow we understand cause-effect connections and what meaning we give to ev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approaching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cit knowledge underlines the decision trees people u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sational rout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outine refers to regular and predictable behaviour patterns, including ways of producing things, ways of hiring and firing personnel, ways of handling inventory, decision-making procedures, advertising policy and R&amp;D procedures, et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94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Transfer: Hidden Competitive Advantage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technology transfer will translate a firm’s technology strategy into achievable objectives that enable firms to leverage their technology and knowledge to gain sustainable competitive advantage in the global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evident that the major technology management activities in the evolution phases of multinational companies focus on “technology transfer”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-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tionalizatio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obalizatio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obal dominant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734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lationship (notional hypotheses) between knowledge transfer and economic growth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71640" y="69228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hip between Knowledge Transfer and Economic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905120" y="3708360"/>
            <a:ext cx="6324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3505320" y="2666520"/>
            <a:ext cx="1981080" cy="251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5486400" y="2666880"/>
            <a:ext cx="1676520" cy="251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3505320" y="5181480"/>
            <a:ext cx="3657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"/>
          <p:cNvSpPr/>
          <p:nvPr/>
        </p:nvSpPr>
        <p:spPr>
          <a:xfrm flipH="1" flipV="1">
            <a:off x="5866920" y="2666520"/>
            <a:ext cx="1752840" cy="2590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400800" y="2616480"/>
            <a:ext cx="251460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nowledg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886200" y="27115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iang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429000" y="35496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n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133720" y="46926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iangji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80880" y="2466000"/>
            <a:ext cx="31114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features of knowledge transfer that appear to be associated with levels of economic development. Certain aspects of knowledge transfer is paralleled by the notional line of economic develop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19"/>
          <p:cNvSpPr txBox="1"/>
          <p:nvPr/>
        </p:nvSpPr>
        <p:spPr>
          <a:xfrm>
            <a:off x="4343400" y="41911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onomy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594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lationship (notional hypotheses) between tacit knowledge transfer and explicit knowledge transfer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57200" y="404640"/>
            <a:ext cx="83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hip between Transfer of Explicit Knowledge and Tacit K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 flipV="1">
            <a:off x="3809880" y="2133720"/>
            <a:ext cx="0" cy="2743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3809880" y="4876920"/>
            <a:ext cx="3276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H="1">
            <a:off x="4114800" y="2743200"/>
            <a:ext cx="2286000" cy="1828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211640" y="2708280"/>
            <a:ext cx="2286000" cy="1752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477120" y="251532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for tacit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477120" y="40615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for explicit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62520" y="4953960"/>
            <a:ext cx="388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vels of economic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733920" y="522756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njiang          Henan            Jiang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3962520" y="1842480"/>
            <a:ext cx="24382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for knowledge transf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468360" y="26377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more demand for tacit knowledge transfer in well developed region while there is more demand for explicit knowledge in less developed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7"/>
          <p:cNvSpPr/>
          <p:nvPr/>
        </p:nvSpPr>
        <p:spPr>
          <a:xfrm>
            <a:off x="637380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914400" y="974880"/>
            <a:ext cx="754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ropriateness and Effect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685800" y="1844640"/>
            <a:ext cx="7848720" cy="3097080"/>
          </a:xfrm>
          <a:prstGeom prst="wedgeRectCallout">
            <a:avLst>
              <a:gd name="adj1" fmla="val 648"/>
              <a:gd name="adj2" fmla="val 89750"/>
            </a:avLst>
          </a:prstGeom>
          <a:solidFill>
            <a:srgbClr val="86db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nowledge transfer is not obtain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f there is too big gap in term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conomic development between transfer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nd transfere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733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  <a:ea typeface="宋体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914400" y="662400"/>
            <a:ext cx="777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 of Intimate Human Interaction in International Joint Ven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62120" y="54234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of management know-how, explicit knowledge and tacit knowledge – Xiaolangdi experiences (Li-Hua,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09680" y="2300040"/>
            <a:ext cx="1828800" cy="51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952880" y="2311920"/>
            <a:ext cx="2057400" cy="51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209680" y="3898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209680" y="4052880"/>
            <a:ext cx="1828800" cy="51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4952880" y="431316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4952880" y="4046400"/>
            <a:ext cx="2057400" cy="51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403848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"/>
          <p:cNvSpPr/>
          <p:nvPr/>
        </p:nvSpPr>
        <p:spPr>
          <a:xfrm flipH="1">
            <a:off x="403812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4038480" y="4267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8"/>
          <p:cNvSpPr/>
          <p:nvPr/>
        </p:nvSpPr>
        <p:spPr>
          <a:xfrm flipH="1">
            <a:off x="403812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9"/>
          <p:cNvSpPr/>
          <p:nvPr/>
        </p:nvSpPr>
        <p:spPr>
          <a:xfrm flipH="1">
            <a:off x="4038480" y="2819520"/>
            <a:ext cx="914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0"/>
          <p:cNvSpPr/>
          <p:nvPr/>
        </p:nvSpPr>
        <p:spPr>
          <a:xfrm flipV="1">
            <a:off x="4724280" y="2819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1"/>
          <p:cNvSpPr/>
          <p:nvPr/>
        </p:nvSpPr>
        <p:spPr>
          <a:xfrm>
            <a:off x="4038480" y="2819520"/>
            <a:ext cx="914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 flipH="1" flipV="1">
            <a:off x="4038120" y="2819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3"/>
          <p:cNvSpPr/>
          <p:nvPr/>
        </p:nvSpPr>
        <p:spPr>
          <a:xfrm>
            <a:off x="304812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4"/>
          <p:cNvSpPr/>
          <p:nvPr/>
        </p:nvSpPr>
        <p:spPr>
          <a:xfrm flipV="1">
            <a:off x="3048120" y="2819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601992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7"/>
          <p:cNvSpPr/>
          <p:nvPr/>
        </p:nvSpPr>
        <p:spPr>
          <a:xfrm flipV="1">
            <a:off x="6019920" y="28191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1600200" y="483840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patterns of dyad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0"/>
          <p:cNvGraphicFramePr/>
          <p:nvPr/>
        </p:nvGraphicFramePr>
        <p:xfrm>
          <a:off x="250920" y="614520"/>
          <a:ext cx="8713800" cy="603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14520"/>
                    <a:ext cx="871380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Knowledge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, in particular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tacit knowledge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 that are the keys often to deliver the sustainable competitive advantage because it is this part that competitors have trouble in replica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To provide sustained competitive advantage, one needs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tacit knowledge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 that is difficult for outsiders to copy as well as the ability to rapidly develop new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38080" y="533520"/>
            <a:ext cx="57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cit Knowled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838080" y="533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roblem Area: Channel Blockage of Tacit Knowled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62120" y="988560"/>
            <a:ext cx="72388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4920" y="3968640"/>
            <a:ext cx="114300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676520" y="4997160"/>
            <a:ext cx="144756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76520" y="2833560"/>
            <a:ext cx="144756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429000" y="3962880"/>
            <a:ext cx="1447920" cy="397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4267080" y="5022000"/>
            <a:ext cx="1447920" cy="50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267080" y="2831400"/>
            <a:ext cx="1447920" cy="50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553080" y="2910600"/>
            <a:ext cx="144792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6553080" y="3900600"/>
            <a:ext cx="144792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553080" y="4967280"/>
            <a:ext cx="144792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676520" y="3962880"/>
            <a:ext cx="1447560" cy="397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 flipV="1">
            <a:off x="2362320" y="44193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2362320" y="3200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44792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31240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H="1">
            <a:off x="320004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V="1">
            <a:off x="3733920" y="31237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373392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3733920" y="4419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373392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5715000" y="3124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5715000" y="5257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5"/>
          <p:cNvSpPr/>
          <p:nvPr/>
        </p:nvSpPr>
        <p:spPr>
          <a:xfrm>
            <a:off x="7238880" y="3276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6"/>
          <p:cNvSpPr/>
          <p:nvPr/>
        </p:nvSpPr>
        <p:spPr>
          <a:xfrm flipV="1">
            <a:off x="7238880" y="43430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27"/>
          <p:cNvSpPr/>
          <p:nvPr/>
        </p:nvSpPr>
        <p:spPr>
          <a:xfrm>
            <a:off x="5791320" y="5661000"/>
            <a:ext cx="2165400" cy="936720"/>
          </a:xfrm>
          <a:prstGeom prst="wedgeRectCallout">
            <a:avLst>
              <a:gd name="adj1" fmla="val -31703"/>
              <a:gd name="adj2" fmla="val -92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bloc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-blockag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strategy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8199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At institutional level: A strong IP framework and appropriate IP strategy are essential in achieving tacit knowledge trans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However at personal level, the following elements are importa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Trust and friendly relationship buil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Motivation of knowledge trans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Share a vision of future and develop a knowledge-sharing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Be aware of motivators and barri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Think globally and act lo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Effective and appropriate commun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Cross-culture team buil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Deal with defensive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27"/>
          <p:cNvSpPr/>
          <p:nvPr/>
        </p:nvSpPr>
        <p:spPr>
          <a:xfrm>
            <a:off x="838080" y="762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cit Knowledge Transfer Is Achievabl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213840"/>
            <a:ext cx="81187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Un-blockage of Tacit knowledge Transfer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major concern is if technology transfer leverages the innovation capacity building, however the blockage of tacit knowledge transfer has to be properly addr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IP framework and appropriate IP strategy wil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 the transfer of technology between the developed and the developing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 more technological innovation in the global econo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Strategy channels smooth technology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lusion and Implication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transfer presents both opportunities and challenges to the transferor and the transfe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not surprising that the channel of technology transfer is blocked due to fear of losing competitive advantage. However IP strategy is a key to un-block th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ithout a strong IP system, technology transfer is not achiev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P strategy leverages economic growth and development in both developed and developing coun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charts the strategic and operational guidance to achieve competitive advantage not only for the transferor but also for the transfe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propriate IPR strategy represents a solid foundation on which knowledge economy can be bui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94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pportunities and Challenges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70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transfer offers a win-win solution for both the transferor and the transfere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lobalization affects each country in a different wa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veloped countries can obtain huge marketplace for their surplus producing power by selling goods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ferring technolo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setting up joint venture etc, while the developing countries ca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 advanced technology and knowl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offering new market opportunities and providing human resources and raw materi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306072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ibliography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0596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Bennet, D., Zhao, H.Y., Vaigya, K., and Wang, X.M., 1997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ransferring Manufacturing Technology to China: Supplier Perceptions and Acquirer Expectations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, Integrated Manufacturing System, MCB University Press, ISSN 0957-6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Cummings, J., and Teng, B.S., 2003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ransferring R&amp;D Knowledge: the Key Factors Affecting Knowledge Transfer Success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, Journal of Engineering and Technology Management, JET-M, ELSEV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Egbu, C.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Knowledge Management in Construction SMEs: Coping with the Issues of Structure, Culture, Commitment and Motiv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Hofstede, G., 1980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Culture’s Consequences: international Differences in Work-related Values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Beverly Hills, CA:Sa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Jasinski, A. H., 2005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Barriers for Technology Transfer in Transition Economics: Results of Empirical Studies,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Conference Proceedings of Economic and Technological Dimension of National Innovation Systems, Warsaw, 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Johnson, G., and Scholes., 1997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Exploring Corporate Strategy - Text and Cases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Li-Hua, R., 2004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echnology and Knowledge Transfer in China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Ashgate Publish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Li-Hua, R., 2006, </a:t>
            </a:r>
            <a:r>
              <a:rPr b="0" i="1" lang="en-GB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Examining the Appropriateness and Effectiveness of Technology Transfer in China</a:t>
            </a:r>
            <a:r>
              <a:rPr b="0" lang="en-GB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, Journal of Technology Transfer in China, Volume 1, Issue 2, Emerald Insigh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Lubit, R., 2001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acit Knowledge and Knowledge Management: Keys to Sustainable Competitive Advanta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Lynch, R., 2000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Corporate Strategy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Financial Times 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McAulay, L., Russell, G., and Sims, J., 1997, 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acit Knowledge for Competitive Advantage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Management Accounting (British), Volue 75 No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Polanyi, M., 1967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he Tacit Dimension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Routledge &amp; Kegan Paul Lt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Renzl, B., 2006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rust in Management and Knowledge Sharing: The Mediating Effects of Fear and Knowledge Documentation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, Science Direct, ELSEV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Stonehouse, G., Hamill, J., Cambell, D., and Purdie, T., 2000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Global and Transnational Business - Strategy and Management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John Wiley &amp; Sons, Lt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hompson, A., and Strickland, A., 1998,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Strategic Management Concept and Cases, 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Irwin McGraw-Hi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94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pportunities and Challenges (cont’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70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-driven industry creates technological changes through disruptive inno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ur dimensions of innovation: product versus process; radical versus incremental; competence enhancing versus competence destroying; architectural versus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 countless innovation projects are imitation, absorption, adaptation, improvement, reconfiguration, modification, or re-branding of existing technology, or successful transfer of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ower of steady stream of innovative ideas and emerging technologies, in particular, ITT, present considerable opportunities and challe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947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chnology Transfer in the Current Recession – A Win-win Strateg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70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urrent recession increases the unemployment and panic in the developed countries, such as, US, European cou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protect its employment rate and safe guard its economy by transferring technolog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emerging economic power, such as, China, India, etc. who are seeking innovation framework, new technology or knowledge for developing new mode for economic growth or system for sustain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repeats what happened in 1970 where the developed wanted to sell technology for profit while the developing wanted to buy technology  for solving the problem of economic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3745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count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rn on proper  protection of Intellectual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certainty of IP in the developing count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infrin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plication is a normal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26920" y="476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Transfer Dilemma between Developed and Developing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43280" y="1844640"/>
            <a:ext cx="3961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ing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ney was paid to purchase advanced technology, but ended only with second hand equipment and old fashioned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s of technology transfer were signed, however, key technology was not secu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ts were closed due to improper technology transfer or no transf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26920" y="188640"/>
            <a:ext cx="8118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8270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 crucial and dynamic factor in social and economic development and a short-cut not only to the developing countries but also to the developed countri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Close relationship between technology transfer and economic growth and achieving competitive advantag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International business strategi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National technology strateg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Value-added in each process of transf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380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gnificance of Technology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63480" y="4416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09480" y="2362320"/>
            <a:ext cx="807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609480" y="765000"/>
          <a:ext cx="7923240" cy="550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5000"/>
                    <a:ext cx="792324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Box 5"/>
          <p:cNvSpPr/>
          <p:nvPr/>
        </p:nvSpPr>
        <p:spPr>
          <a:xfrm>
            <a:off x="611280" y="476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chnology Transfer:  The Major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766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ows of technological knowledge to marke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vement of science and technology from one group to another grou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ransfer of hardware objectives, traditionall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 often involves information (e.g. a computer software programme or a new ide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3808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echnology Transf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048120" y="1291680"/>
            <a:ext cx="72388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5076720" y="4869000"/>
            <a:ext cx="3598920" cy="1465200"/>
          </a:xfrm>
          <a:prstGeom prst="wedgeRectCallout">
            <a:avLst>
              <a:gd name="adj1" fmla="val -70953"/>
              <a:gd name="adj2" fmla="val 4420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e transfer of systema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nowledge for the manufa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f a product or provi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f servic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95280" y="609300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Regulation of United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08:00:05Z</dcterms:created>
  <dc:creator>luyang</dc:creator>
  <dc:description/>
  <dc:language>en-US</dc:language>
  <cp:lastModifiedBy>richard</cp:lastModifiedBy>
  <cp:lastPrinted>2003-03-01T02:28:09Z</cp:lastPrinted>
  <dcterms:modified xsi:type="dcterms:W3CDTF">2010-11-22T09:46:28Z</dcterms:modified>
  <cp:revision>483</cp:revision>
  <dc:subject/>
  <dc:title>Knowledge Management</dc:title>
</cp:coreProperties>
</file>